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7BA-957B-489A-9BED-BEC78BA2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2AD-D816-4CD6-BCEB-0D8F2C4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CDB-E977-4400-B2CC-3D5135B2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76F-C70A-49BE-94B5-EE360B6C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8BD6-278B-43B8-8D95-70D4FFB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CCC-80D2-4297-9C4D-1AECD36B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3300-9FE4-4A65-837B-23E2D19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922-28E6-402A-AF73-14D2C631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8696-22AA-4622-BB17-10101C9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1A8-8BA7-4E1A-BFCB-06C8953E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FF84-E743-42C5-B7BA-31D6908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0F-25F0-411D-A754-FC5088ED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E88-9A1A-4656-8E9E-E88F9733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CEB-8683-48CF-8181-E31A52B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8FC-A6C9-4266-B31B-0566AE0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1B3E-398E-40CA-903C-39B0ADC7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C4A3-840C-47AC-9FE5-397EFF4C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970E-4B25-4496-8A21-B71B190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64D5-050E-4C82-844E-D514CF3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1063-8BC1-40A1-8A53-42D1827D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91AA-FC30-4E13-8AF9-0FDE0E71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0BD3-2439-4491-BF8C-1D66BE87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8FB-3C95-461E-86D8-5B64307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1E65-6A13-4D4D-ABA2-297FA76D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2A46-4B70-41E2-A733-A85B1B3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C6D0-C50C-431C-A5FD-3764BD9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7C3A-9F92-4F7A-8CB9-A303FA31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3F21-1BD1-4128-9CF9-B5B1EED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E000-392B-4737-B255-C31634A8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1703-EEBB-4782-9B66-C68973DC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00E8-37D5-4156-96E5-A8795FF9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90BBF-CC4E-42C3-89DB-F157234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4B23-530D-476D-8AA8-D9EE08D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6EA-D693-4952-9D6B-5ACA084E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47BE-6CB5-4316-8B99-E78DD23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22A6-8F83-4BB5-B02F-6CCA8934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AEF1-9D6E-4BC9-8052-59806AE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ED586-99FF-4CA2-BFF5-A22D936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BAAD-5589-422D-A402-741449D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54DD-5F19-47D3-B6B5-76F7B104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463F-BCC6-4FA0-BBDA-A3C52C9C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7F7B-A826-4E84-8416-209BBD27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35D0-F232-4477-A1FC-305E697E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4612-8DA3-481F-A60A-7D1CDFD4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609-790A-4184-BAD9-55F00FC9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EFCD-9C2F-441D-9112-72665E9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1098-6151-4D56-A2CD-E18F16D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FEB3-873C-4ABC-8287-C7C78D0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1F16-46F8-43A9-A53F-61CFAE3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AAD9-ABB3-493E-94DE-6D03A44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439E-9DE6-43F4-8171-9DB0AEE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F103-5E92-46B6-99A0-BF71A0C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DFC0-8E3C-411C-9962-875A492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92DCA-5AE8-4A25-A29E-A4A2136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8219-9DFB-4ECC-B4FC-AC1E4F4B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8C5-5B68-4B63-93E1-FC20C67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B08F-1BD0-44E9-AD6A-AA14014C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C48A3-CE37-4911-A5A4-3E5EA640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92CF-2B0A-466A-9E0D-1BF93F9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2F38-FD67-4C46-9840-D7A0B38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73D4-1D70-4979-A059-D15774CB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87D8-BD6D-4988-9D19-F33DD828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974D-F6D4-4973-BD4A-73EC0F7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3C52-D1F5-4300-8028-8E81044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51FF-3A44-4A1D-970B-3BE0AD1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32F7-0524-417E-BD3F-24784F23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C8D-3BCF-47A6-958B-E0A5F878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F2D6-DC6F-476D-B841-6829737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9069-B55B-48BA-987E-DCCD6208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070A-BB44-4F99-B1C9-38885272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D6955-FA1E-4FFE-849C-85DC748B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1C7C-4C45-4737-BC97-C6B4E1AC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A378A-C538-4337-8512-F43A912D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AFD0-AED9-480D-9C46-EF22DA80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3949-F001-4F83-99F8-FF82051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2BE2-709B-44D9-9612-D563A97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E2FB-CC19-43A1-BD50-AA3FA79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EFD-0670-48E3-A08E-D98EE9E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A93E-DD0F-4AD7-AC38-69D1A093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7D5B-E5CD-46A1-A508-664AD5F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8A90-DDDC-43E5-B484-2D69883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D80A6-5131-4CFD-B238-CFD7B201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B7BB-F600-4970-89B4-DE336290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5BB-47EB-4329-9F93-B9C32C5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28A-6E3C-4D40-8C83-A7E01530DB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FA4-27D2-4FCE-99A0-15F002EF6E0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E878-EAAF-4F5E-AF79-B2499DBF9AF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937-9C39-4A49-B9A4-BD59961778D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88C-14BC-4F29-961B-0CF9B14611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08D5-DD3A-4C13-87BF-27F1685B086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4709-7D78-4991-811D-82959FE5A78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071200" cy="286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-152280" y="146160"/>
            <a:ext cx="1292040" cy="64134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entury Gothic"/>
              </a:rPr>
              <a:t>Естествени съобществ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428840" y="78588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rcRect l="5610" t="0" r="5610" b="0"/>
          <a:stretch/>
        </p:blipFill>
        <p:spPr>
          <a:xfrm>
            <a:off x="4967280" y="785880"/>
            <a:ext cx="3438360" cy="221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3135240" y="3622680"/>
            <a:ext cx="2793960" cy="1878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-152280" y="146160"/>
            <a:ext cx="1292040" cy="64134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entury Gothic"/>
              </a:rPr>
              <a:t>Естествени съобществ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rcRect l="5935" t="0" r="5935" b="0"/>
          <a:stretch/>
        </p:blipFill>
        <p:spPr>
          <a:xfrm>
            <a:off x="5429160" y="214200"/>
            <a:ext cx="3414960" cy="255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643040" y="3324240"/>
            <a:ext cx="3286080" cy="203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4" descr=""/>
          <p:cNvPicPr/>
          <p:nvPr/>
        </p:nvPicPr>
        <p:blipFill>
          <a:blip r:embed="rId1"/>
          <a:stretch/>
        </p:blipFill>
        <p:spPr>
          <a:xfrm>
            <a:off x="212760" y="128520"/>
            <a:ext cx="927000" cy="6716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rcRect l="0" t="115" r="0" b="115"/>
          <a:stretch/>
        </p:blipFill>
        <p:spPr>
          <a:xfrm>
            <a:off x="1428840" y="785880"/>
            <a:ext cx="3533760" cy="2643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3"/>
          <a:stretch/>
        </p:blipFill>
        <p:spPr>
          <a:xfrm>
            <a:off x="5699160" y="2968560"/>
            <a:ext cx="3159000" cy="2389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7611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1285920" y="57168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3"/>
          <a:srcRect l="101" t="0" r="101" b="0"/>
          <a:stretch/>
        </p:blipFill>
        <p:spPr>
          <a:xfrm>
            <a:off x="5572080" y="500040"/>
            <a:ext cx="2841840" cy="2125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4"/>
          <a:stretch/>
        </p:blipFill>
        <p:spPr>
          <a:xfrm>
            <a:off x="5572080" y="5000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5"/>
          <a:stretch/>
        </p:blipFill>
        <p:spPr>
          <a:xfrm>
            <a:off x="1344600" y="3481560"/>
            <a:ext cx="2584440" cy="194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6"/>
          <a:stretch/>
        </p:blipFill>
        <p:spPr>
          <a:xfrm>
            <a:off x="5533920" y="3500280"/>
            <a:ext cx="2895840" cy="20005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-384120" y="146160"/>
            <a:ext cx="1523880" cy="64134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1428840" y="53172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rcRect l="0" t="3244" r="0" b="3244"/>
          <a:stretch/>
        </p:blipFill>
        <p:spPr>
          <a:xfrm>
            <a:off x="5229360" y="2714760"/>
            <a:ext cx="3914640" cy="2928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0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Група от растения /дървета,храсти и тревисти/,които обитават дадено място с определени условия за живот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66320" cy="3103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-6480" y="3000240"/>
            <a:ext cx="2363760" cy="1785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2571840" y="3000240"/>
            <a:ext cx="2166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4929120" y="3000240"/>
            <a:ext cx="2081160" cy="1785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5"/>
          <a:stretch/>
        </p:blipFill>
        <p:spPr>
          <a:xfrm>
            <a:off x="7143840" y="3000240"/>
            <a:ext cx="1785960" cy="181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6"/>
          <a:stretch/>
        </p:blipFill>
        <p:spPr>
          <a:xfrm>
            <a:off x="1000080" y="4786200"/>
            <a:ext cx="2071800" cy="197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7"/>
          <a:stretch/>
        </p:blipFill>
        <p:spPr>
          <a:xfrm>
            <a:off x="4214880" y="4857840"/>
            <a:ext cx="2143080" cy="1927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242560" cy="5370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077320" cy="1597320"/>
          </a:xfrm>
          <a:prstGeom prst="rect">
            <a:avLst/>
          </a:prstGeom>
          <a:ln w="0">
            <a:noFill/>
          </a:ln>
        </p:spPr>
      </p:pic>
      <p:pic>
        <p:nvPicPr>
          <p:cNvPr id="313" name="Subtitle 2" descr=""/>
          <p:cNvPicPr/>
          <p:nvPr/>
        </p:nvPicPr>
        <p:blipFill>
          <a:blip r:embed="rId2"/>
          <a:stretch/>
        </p:blipFill>
        <p:spPr>
          <a:xfrm>
            <a:off x="536400" y="2560680"/>
            <a:ext cx="8071200" cy="323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80520" y="2142720"/>
            <a:ext cx="38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а/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тръстиката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край блата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б/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копривата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край селища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536400" y="706320"/>
            <a:ext cx="8071200" cy="2159280"/>
          </a:xfrm>
          <a:prstGeom prst="rect">
            <a:avLst/>
          </a:prstGeom>
          <a:ln w="0">
            <a:noFill/>
          </a:ln>
        </p:spPr>
      </p:pic>
      <p:pic>
        <p:nvPicPr>
          <p:cNvPr id="317" name="Subtitle 2" descr=""/>
          <p:cNvPicPr/>
          <p:nvPr/>
        </p:nvPicPr>
        <p:blipFill>
          <a:blip r:embed="rId2"/>
          <a:stretch/>
        </p:blipFill>
        <p:spPr>
          <a:xfrm>
            <a:off x="328680" y="3114720"/>
            <a:ext cx="863280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42840"/>
            <a:ext cx="927000" cy="67723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entury Gothic"/>
              </a:rPr>
              <a:t>Животинско съобщество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3824280" cy="250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rcRect l="0" t="126" r="0" b="126"/>
          <a:stretch/>
        </p:blipFill>
        <p:spPr>
          <a:xfrm>
            <a:off x="5214960" y="374760"/>
            <a:ext cx="3500280" cy="2617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1214280" y="3143160"/>
            <a:ext cx="3786480" cy="2622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5"/>
          <a:stretch/>
        </p:blipFill>
        <p:spPr>
          <a:xfrm>
            <a:off x="5214960" y="3143160"/>
            <a:ext cx="345132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071200" cy="1963800"/>
          </a:xfrm>
          <a:prstGeom prst="rect">
            <a:avLst/>
          </a:prstGeom>
          <a:ln w="0">
            <a:noFill/>
          </a:ln>
        </p:spPr>
      </p:pic>
      <p:pic>
        <p:nvPicPr>
          <p:cNvPr id="325" name="Subtitle 2" descr=""/>
          <p:cNvPicPr/>
          <p:nvPr/>
        </p:nvPicPr>
        <p:blipFill>
          <a:blip r:embed="rId2"/>
          <a:stretch/>
        </p:blipFill>
        <p:spPr>
          <a:xfrm>
            <a:off x="324000" y="2139840"/>
            <a:ext cx="8296200" cy="3213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24:20Z</dcterms:created>
  <dc:creator>Misho</dc:creator>
  <dc:description/>
  <dc:language>en-US</dc:language>
  <cp:lastModifiedBy>Home</cp:lastModifiedBy>
  <dcterms:modified xsi:type="dcterms:W3CDTF">2013-04-15T15:46:13Z</dcterms:modified>
  <cp:revision>14</cp:revision>
  <dc:subject/>
  <dc:title>Естествени и изкуствени съобщества</dc:title>
</cp:coreProperties>
</file>